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A35A-C71E-4322-9D07-F18DC3A7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3A15-252B-4A1D-9480-8F186178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AD5-F7D8-404A-9660-46981C40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470-2956-4D7E-9791-99221A95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2AAE-5CF7-4481-B97E-C05FFE1C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075A-69E3-4AF7-95B4-14DDF0C6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B085-D472-43EF-B7CA-6565109B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52A3-B289-4E29-A64A-AC5A455B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5F54-0E24-414E-8E24-DDEC7999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8414-BA0B-467D-8D2D-883BA129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F92E-4FEA-4F5C-B842-02F29F6A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9AC-B4BE-44F2-AEBA-A3FA7D08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2520-17C8-463C-AB34-755BDF7E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C80C-942F-4F7F-B40E-7700324B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8651-A9AB-415D-8B87-55C8E56B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1AA7-A9CC-43AF-BAFF-3305BC19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50B7-88F5-48FF-9735-635F4986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F15F-EB6B-49F2-816A-D1FBE373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0937-108D-49F3-9C3D-FBD15D78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5092-EA27-437A-9759-ED6A6923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D35B-4ABE-4084-BC80-1E6D8F6D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C788-CC26-4AA8-A2A4-D212924F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6BDD-7BE4-4E78-96BE-69AC1CAF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431-6719-42A3-8D6A-3C544580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50A4-0A68-4072-9DDA-3565F0D9802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2690-9AB3-4741-9977-038567E0F95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bit 3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 First Thing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Where do you spend </a:t>
            </a:r>
            <a:br>
              <a:rPr sz="3200"/>
            </a:b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most of your time?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ll spend time in all the quadrants, but the goal should be to increase the time spent in Q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rink Q1 by procrastinating 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 no to Q3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 down on Q4, slacke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Plan Weekl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15 minutes each week to plan your week. Not daily, not month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most important things I need to do this week?  Limit the number to no more than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the big r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each role you fulfill eg student, friend, family member, employee, individual, team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Weekly Plan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 – Block out time for your big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eeing the important things listed, you can then plan when you will do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for that test on 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volun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birthday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Weekly Plan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– Schedule Every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in day with the little to-dos like daily tasks (take out garbage), appoin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Adapt Daily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may come up or your plan didn’t go quite like you thought it wou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if you don’t accomplish everything you set out to, you probably accomplished more than if you had not planned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Does this system work?</a:t>
            </a:r>
            <a:br>
              <a:rPr sz="3200"/>
            </a:b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ot enough time to get it all done!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t 2 – you decided what was most important to you, what should b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t 3 – helps you plan on how to put those thing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power- the strength to say yes to your most important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n’t power- the strength to say no to less important things and to pee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Packing More into Your Lif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pack for a trip, if you are more organized then you can fit more into your suit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more organized in your life to fit more in, you can use the Time Quadrant Model which divides things into important and urgent 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What is Important?/What is Urgent?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- Activities that contribute to your mission and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, exercise, relationships, work,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gent-Pressing things, in-your-face-things, activities that demand immediat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 calls, interruptions, a test tomorrow, car breaks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There are 4 Time Quadrants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and Ur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Procrastinat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 Tomo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iend gets Inj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fo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Due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gent and Not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Yes-M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mportant phone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ru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people’s small probl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er pres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and Not Ur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Prioritiz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/Goal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say due in a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x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Urgent and Not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Slack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 much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less phone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 much computer g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ll marath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wa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Quadrant 1 – The Procrastinator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always be Q1 things that we can’t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minute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putting things off, like volunteering until the last couple of weeks, people become a “stress ca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nding too much of your time here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ss and anx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n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ocre pa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Quadrant 3 – The Yes-Man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spend a lot of time in this quadrant attend to matters that are urgent and may seem important, but are not. For example, a ringing phone.  This quadrant is also full of things that are important to other people, but are not important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spending too much time 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ng a people plea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ing like a doormat for others to wipe their feet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Quadrant 4-The Slacker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category of waste and excess.  There is nothing here that is urgent or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ppears to be relaxation or renewal turns into waste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s of Q4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k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Quadrant 2- The Prioritizer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drant of excel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ce where you want to spend the mos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erson plans ahead for doing first things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spending time here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f your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1:45:36Z</dcterms:created>
  <dc:creator>Brighton Central Schools</dc:creator>
  <dc:description/>
  <dc:language>en-US</dc:language>
  <cp:lastModifiedBy>Phil Schneider</cp:lastModifiedBy>
  <dcterms:modified xsi:type="dcterms:W3CDTF">2012-04-22T23:42:08Z</dcterms:modified>
  <cp:revision>3</cp:revision>
  <dc:subject/>
  <dc:title>Habit 3</dc:title>
</cp:coreProperties>
</file>